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6CC-0870-430D-8DE5-40CE6BD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5B0-9EC7-41B6-9B6B-8693159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08B-448C-4566-855E-64CCAFC2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3E7-DBBC-4077-BB10-D8EF0853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69B1-EB59-4182-8597-A4940593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AC47-32A4-492B-8386-494FA9BC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40F4-9E9A-4918-9327-4E7FD02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6E9-775E-46A5-9FEF-DEC3067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B4F3-CB9C-483A-A84D-A76184A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9D0B-3D39-4A3C-AA40-E6285AD6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0E99-F289-423B-9026-EFA057D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75-99E7-4118-8BB6-F97C5F5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15EB-19B9-44D2-BA01-7476038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102-14C0-4416-AE05-E66DEDB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E827-77EC-47B0-9FBA-07531E05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40B5-4A13-4985-BF27-29C02C1F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4BF-4F92-45D7-8A2E-434F31E1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225-D025-4423-A24F-50611E21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E21-F056-4ACE-AD00-B4CAC5DA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C1F-1E68-48FC-8F54-DF4F14A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D5F-8FB5-46D4-BE69-C8FCD4A7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73D-6458-47E7-BA10-C61D2F1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7B2-ACBD-41BD-B1F4-27395B0D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00A-EA87-4AFD-8BD4-C3CEF47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mtrak.com/servlet/ContentServer?pagename=Amtrak/HomePage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en.wikipedia.org/wiki/Image:Acela_logo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EDB5-F65B-4C37-89F3-07B58EB6B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mtra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00840" y="6477120"/>
            <a:ext cx="1190880" cy="22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upload.wikimedia.org/wikipedia/en/9/9a/Acela_logo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1647720" cy="67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0F9-8808-48BD-9C7C-ED5A92810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adtechblog.com/uploads/your_ad-here.jpg&amp;imgrefurl=http://www.adrants.com/mt335/mt-search.cgi?IncludeBlogs=1&amp;search=ad:tech&amp;x=0&amp;y=0&amp;usg=__opCseySn0oI-haCs5824red50AI=&amp;h=270&amp;w=360&amp;sz=38&amp;hl=en&amp;start=105&amp;um=1&amp;tbnid=j2nF4PxPqi4d6M:&amp;tbnh=91&amp;tbnw=121&amp;prev=/images?q=ad+on+amtrak&amp;start=90&amp;ndsp=18&amp;um=1&amp;hl=en&amp;rlz=1T4LENT_enUS216US216&amp;sa=N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gettyimages.com/Search/Search.aspx?contractUrl=2&amp;language=en-US&amp;p=rush%20hour&amp;assetType=image&amp;src=quick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ttyimages.com/Search/Search.aspx?contractUrl=2&amp;language=en-US&amp;p=rush%20hour&amp;assetType=image&amp;src=quick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7/74/SouthStation.agr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Penn_Station_NYC_main_entrance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4" descr=""/>
          <p:cNvPicPr/>
          <p:nvPr/>
        </p:nvPicPr>
        <p:blipFill>
          <a:blip r:embed="rId1"/>
          <a:stretch/>
        </p:blipFill>
        <p:spPr>
          <a:xfrm>
            <a:off x="682560" y="1511280"/>
            <a:ext cx="7785000" cy="1792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a Arrillaga, Catherine Beal, Maria Olave, Kareen Rosefort, Jaspal Sin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View image det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5210280"/>
            <a:ext cx="161928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5210280"/>
            <a:ext cx="161928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View image detai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52102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View image detai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52102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iew image detai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81080" y="52102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8" descr=""/>
          <p:cNvPicPr/>
          <p:nvPr/>
        </p:nvPicPr>
        <p:blipFill>
          <a:blip r:embed="rId12"/>
          <a:stretch/>
        </p:blipFill>
        <p:spPr>
          <a:xfrm>
            <a:off x="3303720" y="3024360"/>
            <a:ext cx="2450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Crystal Ball, we find that the maximum profit are typically generated by using 11-16 trains per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ing on the risk level, Amtrak can make profits of up to $51,130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ait...there’s more we could 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count for demand shifts during different times of the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 elasticity varies according to day and time, higher prices could be sustained for peak tra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orporate ancillary income from advertising and food/beverage sales into revenue simulation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passengers leads to more ancillary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View image det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495680"/>
            <a:ext cx="2133720" cy="143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View image detai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4952880"/>
            <a:ext cx="2362320" cy="157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your_ad-here"/>
          <p:cNvPicPr/>
          <p:nvPr/>
        </p:nvPicPr>
        <p:blipFill>
          <a:blip r:embed="rId5"/>
          <a:stretch/>
        </p:blipFill>
        <p:spPr>
          <a:xfrm>
            <a:off x="838080" y="4935600"/>
            <a:ext cx="2210040" cy="154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View image detail"/>
          <p:cNvPicPr/>
          <p:nvPr/>
        </p:nvPicPr>
        <p:blipFill>
          <a:blip r:embed="rId6"/>
          <a:stretch/>
        </p:blipFill>
        <p:spPr>
          <a:xfrm>
            <a:off x="2362320" y="4495680"/>
            <a:ext cx="20574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 Profi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trak Acela ex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it Profits are Not on Tr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spite of strong subsidies almost every public transit systems cannot generate sufficient income to cover its operating and capita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public transit systems, or parts of them, are either over or under us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uring peak hours, crowdedness creates discomfort for u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w ridership makes many services financially unsustainable, particularly in suburban are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trak is unprofitable, government subsidies keep it in 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trak Acela 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28600" y="1371600"/>
            <a:ext cx="6705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an service in 2000 as the only true high speed train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speed is 15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um service that only serves the Northeast Corr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6-2007 a total of 2,668,174 passengers rode Acela, an 8.8% year-over-year increase in pa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dly the only Amtrak route that breaks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stops at stations with the highest passenger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Acela Express Boston, New York, and Washington, DC Poster"/>
          <p:cNvPicPr/>
          <p:nvPr/>
        </p:nvPicPr>
        <p:blipFill>
          <a:blip r:embed="rId1"/>
          <a:srcRect l="17953" t="0" r="20516" b="0"/>
          <a:stretch/>
        </p:blipFill>
        <p:spPr>
          <a:xfrm>
            <a:off x="7010280" y="1600200"/>
            <a:ext cx="1828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ston to NYC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Image:SouthStation.ag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19112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upload.wikimedia.org/wikipedia/commons/thumb/4/41/Penn_Station_NYC_main_entrance.jpg/300px-Penn_Station_NYC_main_entranc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19112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33520" y="1219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2 million people used Boston stations and almost 8 million departed and arrived at NYC using Am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se totals, 14% took the A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competition on the New York to Boston route is air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trip is three and a half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h hour ticket price is $189, non-peak hour ticket price is $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Acela Express Route Map"/>
          <p:cNvPicPr/>
          <p:nvPr/>
        </p:nvPicPr>
        <p:blipFill>
          <a:blip r:embed="rId5"/>
          <a:srcRect l="0" t="0" r="0" b="9478"/>
          <a:stretch/>
        </p:blipFill>
        <p:spPr>
          <a:xfrm>
            <a:off x="4114800" y="4191120"/>
            <a:ext cx="137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Objectiv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timize the number of trains in operation between Boston and New York in order to maximize pro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http://www.adobe.com/designcenter/thinktank/greenfield/tt_greenfield_2.jpg"/>
          <p:cNvPicPr/>
          <p:nvPr/>
        </p:nvPicPr>
        <p:blipFill>
          <a:blip r:embed="rId1"/>
          <a:stretch/>
        </p:blipFill>
        <p:spPr>
          <a:xfrm>
            <a:off x="3048120" y="3571920"/>
            <a:ext cx="3105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 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4% of every dollar goes to operat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 costs per train of $1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 capacity is 504 passen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ximum of 25 trains per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0% of tickets are sold during peak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mand assumes a lognormal distribution with mean of 7397 and standard deviation of 1165 based on actual Amtrak Acela demands per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400800" y="1795320"/>
            <a:ext cx="26337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3680" indent="-463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6320" y="1447920"/>
            <a:ext cx="8991360" cy="480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85680" y="1730520"/>
            <a:ext cx="89708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"/>
          <p:cNvPicPr/>
          <p:nvPr/>
        </p:nvPicPr>
        <p:blipFill>
          <a:blip r:embed="rId1"/>
          <a:stretch/>
        </p:blipFill>
        <p:spPr>
          <a:xfrm>
            <a:off x="450720" y="1749600"/>
            <a:ext cx="8242560" cy="453528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7"/>
          <p:cNvCxnSpPr/>
          <p:nvPr/>
        </p:nvCxnSpPr>
        <p:spPr>
          <a:xfrm flipH="1" flipV="1">
            <a:off x="1447560" y="3580560"/>
            <a:ext cx="167688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095880" y="266688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34:23Z</dcterms:created>
  <dc:creator>Jassi</dc:creator>
  <dc:description/>
  <dc:language>en-US</dc:language>
  <cp:lastModifiedBy>Catherine Beal</cp:lastModifiedBy>
  <dcterms:modified xsi:type="dcterms:W3CDTF">2008-12-01T17:49:41Z</dcterms:modified>
  <cp:revision>15</cp:revision>
  <dc:subject/>
  <dc:title>Amtrak Acela Express</dc:title>
</cp:coreProperties>
</file>